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D84-B8B2-437F-ADB4-E1AF642B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9FC-A78E-4C84-9192-B1E2FB22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61D-A8B2-4CC8-81CA-4DBE59C0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AC9-4B28-44BA-9278-A9F6B60E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DAD-7583-4CBE-8DD7-A0F0667B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3CCB-61E4-4892-8279-3AEF1A70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698-4E7A-48E8-8C01-2D045780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BCE5-766A-4A08-99A3-4F78BEAD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D5D-16C5-4ED6-9846-4DC546DA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9F12-6E84-438F-A667-1A90F9FC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653-B60C-40EA-8546-634AA9C0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5AD-623E-4E68-AEF2-78FFC427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CC76-A50E-4D2F-BB16-B8E2F3EC0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9:12:52Z</dcterms:created>
  <dc:creator>jweiss</dc:creator>
  <dc:description/>
  <dc:language>en-US</dc:language>
  <cp:lastModifiedBy>jweiss</cp:lastModifiedBy>
  <dcterms:modified xsi:type="dcterms:W3CDTF">2008-10-24T19:12:57Z</dcterms:modified>
  <cp:revision>1</cp:revision>
  <dc:subject/>
  <dc:title>blah</dc:title>
</cp:coreProperties>
</file>